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AAF-971C-4437-AC27-303FBED2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AF4-9FFA-435D-9132-327C25B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CC-FD04-475F-B6A4-ABC238A6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20B-9DA9-429C-A0DD-3D69ADF0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689-5DD5-4BA5-B59E-4F9BA05B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47E-C64E-4232-9ACA-176895D6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5EB-96D1-4766-86A0-BA64D805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296-7887-484F-B0CD-1DBB1930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B3F-2179-4F22-A654-E4945D2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8E0-3264-488F-80FE-2448F39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3FA-C738-409F-A5D8-F5D525D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5D6-1437-460D-BDDF-20B8CB86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145-2F9F-4E63-BAE5-FB2F01FB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4 Nenariekaj, začni dúf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nariekaj, začni d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áš v srdci bolesť,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, niet prečo z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a teba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Kráľ, čo v nebi vlá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d tebou verne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aj pochybnosti žia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j, on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kotvi v Božom Slo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ku tieň sa rozply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sľúbil všetko no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rdcu si ťa priv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 a dúfaj, vykroč z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bojuj, znášaj krí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ou zbraňou je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kušení zvíť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vern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rť všade hrôzu s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ťa stále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mätku žitia pozemsk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a raj ti sľub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, dúfaj v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svoj ti dar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12:36Z</dcterms:modified>
  <cp:revision>22</cp:revision>
  <dc:subject/>
  <dc:title>Je veľký náš Pán, on slávy je Kráľ Nech do všetkých strán  spev vrúcnych znie chvál.</dc:title>
</cp:coreProperties>
</file>